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5B4-6712-4397-8D2D-BB7489B0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234-03AF-4524-8B97-F35BCB78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A65-6A72-4CB0-9A4A-A6B097A5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9EC-C5F9-47C3-8B9F-F756EDEC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E72-A95A-4C6B-984B-09A119ED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417-66A1-44A2-A074-F0195844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862-2691-4096-9515-1E98B9BE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9D5-AC61-4537-95BB-2E88D9A0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A02-28F8-4369-A7D1-3B372CF7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637-54E6-452A-88D1-C35DCD2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990-84A2-4114-8A91-5F21B0C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59E-5E4E-4BE2-AFA2-EC46D84F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1C96-398F-4D82-A89C-6CBD1D0CF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HITECRAIGS                                  WHITECRAIGS  50TH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0" y="4648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0" descr="Whitecraigs 2.JPG"/>
          <p:cNvPicPr/>
          <p:nvPr/>
        </p:nvPicPr>
        <p:blipFill>
          <a:blip r:embed="rId1"/>
          <a:stretch/>
        </p:blipFill>
        <p:spPr>
          <a:xfrm>
            <a:off x="415800" y="333360"/>
            <a:ext cx="1152720" cy="124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Whitecraigs 50th.JPG"/>
          <p:cNvPicPr/>
          <p:nvPr/>
        </p:nvPicPr>
        <p:blipFill>
          <a:blip r:embed="rId2"/>
          <a:stretch/>
        </p:blipFill>
        <p:spPr>
          <a:xfrm>
            <a:off x="2073240" y="333360"/>
            <a:ext cx="1243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43:42Z</dcterms:modified>
  <cp:revision>22</cp:revision>
  <dc:subject/>
  <dc:title>PowerPoint Presentation</dc:title>
</cp:coreProperties>
</file>